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1F1-3EE1-40B2-9CDD-6DDDE13F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C8A-0F88-4878-9F93-A2B1383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856-678E-41E6-AE46-0AAD8E77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56C-E1A0-4500-B8A5-D3FEC82C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528-4A25-4A1E-B644-F9B4687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7E8-1D9E-4420-A748-A36CB19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895-1301-49CA-84F3-A386D6F3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261-5E67-4EC7-B8F5-D7E82B9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0B0-C597-4CCF-93A8-1566834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630-4687-4E32-9343-8B0A942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C6C-A83E-4D20-9190-440F795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C43-9256-415D-A682-A1F4148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C3F-73D9-4C9E-AF8F-0CABB775C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CO JOSÉ ROMERO MORE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IS LUQUE BERD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Marcador de contenido" descr="logo almanzora.jpg"/>
          <p:cNvPicPr/>
          <p:nvPr/>
        </p:nvPicPr>
        <p:blipFill>
          <a:blip r:embed="rId1"/>
          <a:stretch/>
        </p:blipFill>
        <p:spPr>
          <a:xfrm>
            <a:off x="2714760" y="500040"/>
            <a:ext cx="3429000" cy="871560"/>
          </a:xfrm>
          <a:prstGeom prst="rect">
            <a:avLst/>
          </a:prstGeom>
          <a:ln w="0">
            <a:noFill/>
          </a:ln>
        </p:spPr>
      </p:pic>
      <p:pic>
        <p:nvPicPr>
          <p:cNvPr id="43" name="5 Marcador de contenido" descr="foto fachada almanzora.jpg"/>
          <p:cNvPicPr/>
          <p:nvPr/>
        </p:nvPicPr>
        <p:blipFill>
          <a:blip r:embed="rId2"/>
          <a:stretch/>
        </p:blipFill>
        <p:spPr>
          <a:xfrm>
            <a:off x="2286000" y="1643040"/>
            <a:ext cx="428616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46c0a"/>
                </a:solidFill>
                <a:latin typeface="Calibri"/>
              </a:rPr>
              <a:t>ELEMENTOS ESTRUCTURAL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anigrama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. Departament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Estructura formal de la or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anigraf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Estructura y val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utsor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RGANIGRAMA GENER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5 Marcador de contenido" descr="organigrama funcional general.jpg"/>
          <p:cNvPicPr/>
          <p:nvPr/>
        </p:nvPicPr>
        <p:blipFill>
          <a:blip r:embed="rId1"/>
          <a:stretch/>
        </p:blipFill>
        <p:spPr>
          <a:xfrm>
            <a:off x="714240" y="1714680"/>
            <a:ext cx="74678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Calibri"/>
              </a:rPr>
              <a:t>ORGANIGRAM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6000" spc="-1" strike="noStrike">
                <a:solidFill>
                  <a:srgbClr val="000000"/>
                </a:solidFill>
                <a:latin typeface="Calibri"/>
              </a:rPr>
              <a:t>DEPARTAMENT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GER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DMINISTR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P. 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P. LOGI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.A.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DMINISTR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69" name="_s28684"/>
            <p:cNvCxnSpPr>
              <a:stCxn id="70" idx="0"/>
              <a:endCxn id="71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8683"/>
            <p:cNvCxnSpPr>
              <a:stCxn id="73" idx="0"/>
              <a:endCxn id="71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8682"/>
            <p:cNvCxnSpPr>
              <a:stCxn id="75" idx="0"/>
              <a:endCxn id="71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28678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_s28679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28680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_s28681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ABLE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A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EP. COMER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4038120" cy="4524480"/>
            <a:chOff x="457200" y="1600200"/>
            <a:chExt cx="4038120" cy="4524480"/>
          </a:xfrm>
        </p:grpSpPr>
        <p:cxnSp>
          <p:nvCxnSpPr>
            <p:cNvPr id="78" name="_s31757"/>
            <p:cNvCxnSpPr>
              <a:stCxn id="79" idx="0"/>
              <a:endCxn id="80" idx="2"/>
            </p:cNvCxnSpPr>
            <p:nvPr/>
          </p:nvCxnSpPr>
          <p:spPr>
            <a:xfrm flipV="1" rot="16200000">
              <a:off x="2730240" y="3154680"/>
              <a:ext cx="905400" cy="141408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1756"/>
            <p:cNvCxnSpPr>
              <a:stCxn id="82" idx="0"/>
              <a:endCxn id="80" idx="2"/>
            </p:cNvCxnSpPr>
            <p:nvPr/>
          </p:nvCxnSpPr>
          <p:spPr>
            <a:xfrm flipV="1">
              <a:off x="2476440" y="3409200"/>
              <a:ext cx="216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1755"/>
            <p:cNvCxnSpPr>
              <a:stCxn id="84" idx="0"/>
              <a:endCxn id="80" idx="2"/>
            </p:cNvCxnSpPr>
            <p:nvPr/>
          </p:nvCxnSpPr>
          <p:spPr>
            <a:xfrm flipH="1" flipV="1" rot="5400000">
              <a:off x="1316880" y="3155040"/>
              <a:ext cx="905400" cy="141408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31751"/>
            <p:cNvSpPr/>
            <p:nvPr/>
          </p:nvSpPr>
          <p:spPr>
            <a:xfrm>
              <a:off x="1870560" y="160020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31752"/>
            <p:cNvSpPr/>
            <p:nvPr/>
          </p:nvSpPr>
          <p:spPr>
            <a:xfrm>
              <a:off x="45720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ERCIAL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_s31753"/>
            <p:cNvSpPr/>
            <p:nvPr/>
          </p:nvSpPr>
          <p:spPr>
            <a:xfrm>
              <a:off x="187056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_s31754"/>
            <p:cNvSpPr/>
            <p:nvPr/>
          </p:nvSpPr>
          <p:spPr>
            <a:xfrm>
              <a:off x="328392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EGADO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ERCIAL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8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651640" y="2276640"/>
            <a:ext cx="2403000" cy="2907000"/>
            <a:chOff x="5651640" y="2276640"/>
            <a:chExt cx="2403000" cy="2907000"/>
          </a:xfrm>
        </p:grpSpPr>
        <p:cxnSp>
          <p:nvCxnSpPr>
            <p:cNvPr id="86" name="_s31766"/>
            <p:cNvCxnSpPr>
              <a:stCxn id="87" idx="0"/>
              <a:endCxn id="88" idx="2"/>
            </p:cNvCxnSpPr>
            <p:nvPr/>
          </p:nvCxnSpPr>
          <p:spPr>
            <a:xfrm flipV="1">
              <a:off x="6852960" y="3438720"/>
              <a:ext cx="3600" cy="58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31761"/>
            <p:cNvSpPr/>
            <p:nvPr/>
          </p:nvSpPr>
          <p:spPr>
            <a:xfrm>
              <a:off x="5651640" y="2276640"/>
              <a:ext cx="2403000" cy="116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R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31763"/>
            <p:cNvSpPr/>
            <p:nvPr/>
          </p:nvSpPr>
          <p:spPr>
            <a:xfrm>
              <a:off x="5651640" y="4020840"/>
              <a:ext cx="2403000" cy="116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RAS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EP. LOGI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1640" y="1585800"/>
            <a:ext cx="8208720" cy="4462560"/>
            <a:chOff x="431640" y="1585800"/>
            <a:chExt cx="8208720" cy="4462560"/>
          </a:xfrm>
        </p:grpSpPr>
        <p:cxnSp>
          <p:nvCxnSpPr>
            <p:cNvPr id="91" name="_s34832"/>
            <p:cNvCxnSpPr>
              <a:stCxn id="92" idx="0"/>
              <a:endCxn id="93" idx="2"/>
            </p:cNvCxnSpPr>
            <p:nvPr/>
          </p:nvCxnSpPr>
          <p:spPr>
            <a:xfrm flipV="1" rot="16200000">
              <a:off x="5685480" y="22201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4830"/>
            <p:cNvCxnSpPr>
              <a:stCxn id="95" idx="0"/>
              <a:endCxn id="93" idx="2"/>
            </p:cNvCxnSpPr>
            <p:nvPr/>
          </p:nvCxnSpPr>
          <p:spPr>
            <a:xfrm flipV="1" rot="16200000">
              <a:off x="4621320" y="32842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34829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3558600" y="32853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34828"/>
            <p:cNvCxnSpPr>
              <a:stCxn id="99" idx="0"/>
              <a:endCxn id="93" idx="2"/>
            </p:cNvCxnSpPr>
            <p:nvPr/>
          </p:nvCxnSpPr>
          <p:spPr>
            <a:xfrm flipH="1" flipV="1" rot="5400000">
              <a:off x="2493360" y="22201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4824"/>
            <p:cNvSpPr/>
            <p:nvPr/>
          </p:nvSpPr>
          <p:spPr>
            <a:xfrm>
              <a:off x="3624120" y="158580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LMACEN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_s34825"/>
            <p:cNvSpPr/>
            <p:nvPr/>
          </p:nvSpPr>
          <p:spPr>
            <a:xfrm>
              <a:off x="4316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STRADOR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_s34826"/>
            <p:cNvSpPr/>
            <p:nvPr/>
          </p:nvSpPr>
          <p:spPr>
            <a:xfrm>
              <a:off x="255960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QUETERIA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3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34827"/>
            <p:cNvSpPr/>
            <p:nvPr/>
          </p:nvSpPr>
          <p:spPr>
            <a:xfrm>
              <a:off x="468792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DICONES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34831"/>
            <p:cNvSpPr/>
            <p:nvPr/>
          </p:nvSpPr>
          <p:spPr>
            <a:xfrm>
              <a:off x="68162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ARTIDORES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.A.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102" name="_s3687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6877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36872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-VENT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-VEN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ÉCNICO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c0a"/>
                </a:solidFill>
                <a:latin typeface="Calibri"/>
              </a:rPr>
              <a:t>ANÁLISIS DESCRIPTIV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Histo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Actividades de la empres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Características de la Empres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ndada 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57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como TRANER, S.L., por Luís Pérez en Valenc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65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establece TRANER, S.L. en Lin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68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comienzan a visitar las provincias de Córdoba y C.Real, ante la creciente demanda del merca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76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pasa a denominarse DISMAN LINARES, S.L., fundada por José  Lorenzo y  Luís Pérez Martínez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79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crea SUMISUR, S.L., primera delegación dependiente de Lin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8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 vió  la necesidad de operar bajo una estructura empresarial más compleja. Por ello se decidió abrir una nueva empresa ,RODAMIENTOS ALMANZORA, S.L, concesionario </a:t>
            </a:r>
            <a:r>
              <a:rPr b="0" lang="en-US" sz="2700" spc="-1" strike="noStrike">
                <a:solidFill>
                  <a:srgbClr val="c0504d"/>
                </a:solidFill>
                <a:latin typeface="Calibri"/>
              </a:rPr>
              <a:t>SK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que aglutinó toda la experiencia y medios con que contaba hasta ese momen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8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 constituye DISMAN LA MANCHA S.L en Puertollano, segunda delegación dependiente de Lina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95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e establece ALMANZORA CORDOBA, S.L.,concesionario </a:t>
            </a:r>
            <a:r>
              <a:rPr b="0" lang="en-US" sz="2700" spc="-1" strike="noStrike">
                <a:solidFill>
                  <a:srgbClr val="c0504d"/>
                </a:solidFill>
                <a:latin typeface="Calibri"/>
              </a:rPr>
              <a:t>SK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para atender las demandas de mercado de la provincia de Córdo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anzora comercializa componentes, maquinaria y productos en general, dirigidos al mantenimiento y producción en industrias y serv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fase de distribución de Almanzora consta de tres puntos básicos, que son: Compra de materiales, almacenamiento y ve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RA DE MATERIA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anzora solicita a sus proveedores los materiales que sus propios clientes demandan; se realiza el pedido, generalmente por vía telefónica, siendo transportado el material hasta Almanzora, mediante una agencia de transpor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MAC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vez recibido el pedido, se comprueba que el material solicitado al proveedor coincide con el que se ha recibido, posteriormente se procede a etiquetar el producto, para ser colocado finalmente en su correspondiente ubic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manzora vende su producto principalmente de dos form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mostrador, el cliente acude directamente a la empresa y solicita lo que pretende comprar, y le es entregado en el mom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otro lado, el cliente también puede llamar por teléfono, y el departamento de ventas tomará nota del pedido, que posteriormente se preparará en paquetería, y será enviado al cliente mediante una empresa de transportes contratada por Almanzo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ARACTERISTICA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a empresa pertenece a un amplio grupo, dedicado al sector del suministro industrial. Algunas de estas empresas son: Sumisur, Disman La Mancha, Eurotor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manzora puede considerarse una empresa mediana, que se dedica a comprar a otras empresas que actúan como proveedores, para posteriormente vender tanto a particulares, como a otras empresas que actúan como clientes, es decir un proceso de compra-ven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o de los principales objetivos de Almanzora, es el de conseguir que los técnicos comerciales, se conviertan en consultores de nego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10:15Z</dcterms:created>
  <dc:creator>Carlos</dc:creator>
  <dc:description/>
  <dc:language>en-US</dc:language>
  <cp:lastModifiedBy>Bj</cp:lastModifiedBy>
  <dcterms:modified xsi:type="dcterms:W3CDTF">2009-04-28T11:45:43Z</dcterms:modified>
  <cp:revision>18</cp:revision>
  <dc:subject/>
  <dc:title>Diapositiva 1</dc:title>
</cp:coreProperties>
</file>